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C6C-B11B-444F-AC56-522FFE7F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0A05-A434-4774-A9BB-1B163775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75E-234F-447B-9339-9D9EF66C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16B6-ADD9-4644-94E1-5616C310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C275-C145-42CF-93A8-CB27278F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F002-A585-4060-ADDA-135AFA06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3FC-1E1A-47F4-A7BD-B6919037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4F8C-6B9D-428B-9952-B60733F2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D41-FD53-44C3-86E7-ACD6F90B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5F9F-88DC-4A31-B818-21026135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A5D-751A-4E74-8564-90A650E7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8877-210C-4E03-9AAC-937CEBCF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E6C2-DE10-4F20-9396-2D5CAE7AB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BIA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391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086600" cy="319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905120" y="4114800"/>
            <a:ext cx="3657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91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9:32Z</dcterms:modified>
  <cp:revision>95</cp:revision>
  <dc:subject/>
  <dc:title>The Art in the State of the Art</dc:title>
</cp:coreProperties>
</file>